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D0D9-64A2-4B01-BB61-9CEBFD92A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an Ag Metals class these geometry figures could be used in a variety of way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sketch diagrams and cut out of paper to practice basic skill of understanding the folds.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are provided various correct and incorrect diagrams to tes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sketch diagrams and use them to create a metal bending project. </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y diagram on metal and trace it.</a:t>
            </a:r>
            <a:endParaRPr b="0" lang="en-US" sz="1200" spc="-1" strike="noStrike">
              <a:solidFill>
                <a:srgbClr val="000000"/>
              </a:solidFill>
              <a:latin typeface="Calibri"/>
            </a:endParaRPr>
          </a:p>
          <a:p>
            <a:pPr lvl="3" marL="1371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asure dimensions of diagram, adjust to desired size, and mark dimensions on metal.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udents are provided with a worksheet that contains hypothetical situations to use these shapes for metal bending. Students determine which examples would and would no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Instead of using paper to create the diagrams, sketch them on thin cardboard, such as a cereal box. Paper may be too flimsy for this type of project.</a:t>
            </a: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B15B-9CA2-41C6-953A-39398222D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8298E-A600-413B-A3FF-90B9A910F1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085F2658-8AAA-4BB3-834B-0FC82F0D32E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7C1059-DF75-4F1B-B577-29E3A78A1F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3C3BB7-7BC2-4A82-83D8-C0AFA4CD88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247938-0AD4-4512-8298-5B90360D6F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95FFED-3C3C-4007-B65F-CDBCF5A3EE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F3DCAF-E400-4038-8C0C-4F111C9E56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F71A46-E30F-417B-93E8-400787ACE9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CDEEC9-8E9B-438F-82FC-A7813D87F0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D33208-0F8B-4625-8305-C66A3BDDAD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C27D1C-CD21-4538-9F5F-195A81C339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5CF93B-4287-4A92-87D8-D4D34DB22A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BC262B43-2808-408C-9B15-8E52F36BB43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855878-4E81-406D-A145-DE974E36F8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DFEEF4-5989-4ADE-A7F7-1F7D3F4C99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F6D757-B240-4A29-9708-9254131098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B22AB9-A317-4F12-8C64-92F9BF44C4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7956F4-D7E6-4984-935E-4ABC130082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913038-9FAB-4E0D-80EC-8904B91A8D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7D072D-5993-4760-B8FF-977DDCF1F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8A4D22-A469-4750-814E-9AE0B28635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13E148-7E63-4A2F-9920-0A382F15B6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98B044-7A4D-4020-A80E-AD0E718509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369ABE93-F46E-49C5-BB19-CF8FA5979E8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1956AC-1CE3-4168-845E-ADFD27BB92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C9CAA9B-5447-42AC-8D94-F07F65CBBD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3EF0BB-87B0-479D-87AC-73191F38C2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5EDFD3-126B-4A60-BBC5-459E16F508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401E99-3D60-4078-BE8C-58EF3FCBB1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E38862-E061-472A-B58A-BCCBA2B084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310B13-85B3-40C5-99A7-3344139F25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B2D665-EE53-41C0-B475-16C7066DBB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F2B924-3EC0-4A32-A84A-97E645CDB4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D1AA07-22D5-401F-97EA-C370361B4E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BB8CAEB-FF1F-4371-B222-6731C8BADF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85BBC1-B463-4323-931A-1640FD8E6F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58F6EF-7645-4AA0-A557-C8D845BBFD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2BC272-A6C1-487C-BFA2-1C576F0021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39014A-A8DF-4202-9F19-E921C5592F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999BAA-0D27-439B-A508-934AB9B872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5447E7-DDF3-4500-AF57-7DB396C18F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C83C5D-2338-4E0D-9A75-53474CCE39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284E83-1E91-4704-AF00-70402509F6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8F1643-A649-4654-BD85-FF8CFBA634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341CCD-B46F-41C4-998A-5786DDB58D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BCEB857E-F12B-40A6-B727-0746A1D16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1FAB3D-0CFE-45CA-A3A6-4AA88B5FC0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924995-B8D7-49AD-8500-D9A972D033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E3D660-6FDC-49EE-BB87-7CFC3B51B0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838F46B-9C1A-4868-B93A-44E47FB1C1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EA3B91-7EA5-4517-804B-39F6D14BB4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50C29542-6672-4595-AE57-7E3FF568E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83B15758-AD43-4AD7-A27E-28FDD56FE7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EE397759-A13F-4174-A70E-FCC2684FA2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E8A83000-C16E-4CB8-96E6-2FF135805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75070236-E280-4AF0-AC9D-7DDD05D33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6A46A0F3-75B6-4334-8FCC-D2DD5849FC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1509583C-4D1E-42A5-8984-3E2552747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F1A93C86-39A3-4506-9093-23323C599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A6EF437E-99D3-4BF8-9D96-5783EE167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6D0FF11A-6410-4551-AB8C-678A40AB3D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FD0B313A-678E-4EB0-A559-73288F0C52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68B5E-B5AE-48D9-80B0-A6548CBBB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2C147-9564-42BA-A3AE-985F41FD2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01F7A-856F-4540-8678-68BE7D9D2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62775-BD7D-4C90-8727-5400B50B5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A295C-8FB1-4E76-B46E-00D188769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6E32BD1B-851C-4FD5-B322-6A95A6D1A11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9BA6F-9E18-4B0F-9DC7-15F847EC1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333A1-4966-489C-B146-04D0D0424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899E8-1E79-45A6-912F-E0F41C22A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60B22-3140-4FC5-AC20-553F6D5FA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9ACE5-6EDF-4FCA-B581-2333D54E9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8F09A-10A5-4D18-90A3-24B038C8F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84C5D-34CD-496E-9424-F59E3850A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A0727B-5840-4FDA-85BB-18B7AA6882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CF0F24-62BC-4215-8CEB-6F8631E724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B1BF8-6758-48E5-8F42-89186F5BC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2AE328D4-83F8-4E4E-9C2A-09E57EE072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9694B7-85EB-49F5-BA4C-8F52A5076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4A62A2-EE12-4F43-9AF7-C2DF394C3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D4519-B318-4CA2-877C-E84756404E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6D6A3-C823-445B-8B22-4E7EB9470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31663-2DC0-4A23-BF30-94F3A46A4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324D7-CF8A-40E9-970C-3C4C01EE4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0199D-EFBE-4F4A-8D1E-99A07BC757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C1D0F8-4F61-4B49-9320-221034EA50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F7FAC6-1171-4AE2-8C63-AF7168990E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FB1050-1128-42CB-8B5E-4AEFD62CA3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7CD357C2-7032-4EB5-B53C-5D83A621227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FEF81B-FFBF-4B25-BEDB-06C0BF86A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AEFCAA-AF30-47D6-BEEA-3E0AF42B88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9D630-F3CB-418A-8346-E3F426107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4638CF-CA00-4A07-AC87-307CFA6A82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056BE9-8899-41E3-BF0A-A796FE967E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3FBBC-A01E-404E-BA35-8D5FF20FA8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F4A97-30CA-47BC-ADB4-10DE07BF4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2238D2-594E-45A1-80AD-2AC485633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132D96-0879-477F-882F-3EE0F5EB53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52714D-D63F-41A7-8D93-CFEA9BB888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B34FBFD5-FBD5-4AEC-9807-F64A9C197E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39DECB-1D7F-4F85-8F7D-F2CF35AAC1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E9872E-3267-403B-A7FF-671AF22CD6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B76C6E-460D-479C-89E1-9404367439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76D79A-3194-48FC-95EC-2F93B0DBC6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22F68B-FD97-4575-A262-C41FAAED6B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7C244-4C07-4B2B-8347-CD7D7B0FF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3FFB4F-7E17-45DA-BB2E-A72FDCD6B5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7FF7A-C54C-4AF7-87D7-7D9CCD85C2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EA663-4FBE-4391-8839-D9BE6D8136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1647DD-9A41-49D4-92C8-33644EDDF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4A6DB768-2276-41DD-8A49-0B75FB54EB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002792-01DE-4AB7-9608-11C45C31AC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AF095A-A2E1-4648-803A-E28C6CED1C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3ED078-918D-49FF-A6D9-9E53905601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6427D1-31F3-4D9F-9BD4-FE23DBCF50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C6D24D-F936-40F1-B550-8E6F4EB7E4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AFD61F-FA1D-4AFF-A358-D7366DCE83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5352A4-9022-4DCD-B648-0CBF206E91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89AF25-D775-4AB8-A5E9-E3E8B34DC0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1CA86A-52F5-4611-906D-96C21CBA1A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B2BE1F-D3AE-47A0-B816-E89ACED0A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106DF4F5-F22A-46B9-AEE8-60735E79179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FCC0F-3377-49D8-84E9-49878E529B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3D4371-43E2-405F-938F-86056EBA9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FCC0C4-DC9F-4E54-9332-0E8A6CED5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DA7F7F-1DA7-432A-9281-1AA8C63C62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A4FB74-4991-435D-B8AA-447C6CC1F0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E1D919-BCA4-441D-ADD1-2EC3940D63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D319F7-40AA-41B8-B0D9-E63A796CBA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02E650-7D1D-4DEF-9D49-95F6AFBC08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C2EAD4-2610-49AF-A2AF-A6F8B7CBE4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2B75D4-6E50-4B2A-A542-5ADE928ADC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BBC7C7F0-584F-48CF-8551-7D89128DE92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E94411-4C9F-4675-A990-1C8766CCCF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C89C37-7A61-44C7-BDB6-59C3835D03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7D2D8B-CE7D-47C8-930D-C5367DA48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59C4CE-6A21-43F1-A815-D3D53A7743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D1BEFD-7297-45CD-8E2C-AFE1E896E9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C03FFE-EE87-4EB1-9023-1E0B53D226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EB14BD-8B29-4682-8587-CA512F08E4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4B8530-902E-49CD-B0F0-D6090E8F85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50907A-4582-41C9-8D61-3044FF90F3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3F7E3A-580E-4A5A-A9C3-0F7495C3E2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FA53-9A06-4200-84A0-A669FA7C68F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AC14-4D17-4013-854A-5DCC69561C2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8E9A-9D62-44C7-81CD-57CE4DA8270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5128-3D05-417F-9B36-B90CFC59277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AF66-AA17-40C6-A418-DFA219A0D0D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6C62-7AE7-43A9-B768-78BC517ED26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BB66-8481-463C-9212-CE9A2F87DD9A}"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F4D6-CA62-45E9-9229-015B611CC08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DFA2-E398-4EE6-9452-314F1906FBD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B36E-4DD6-47E9-9111-9F815E6A5F98}"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63A2-B535-4794-B494-7974E47CED7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775F-62B3-407C-8C29-683CBA05015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3</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8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s time the paper folds perfectly into a box. He can now lay this paper model onto the metal and trace around the outline. He also can measure the dimensions of the boxes to make marks on the metal for the appropriate bends.</a:t>
            </a:r>
            <a:endParaRPr b="0" lang="en-US" sz="2800" spc="-1" strike="noStrike">
              <a:solidFill>
                <a:srgbClr val="4e3b30"/>
              </a:solidFill>
              <a:latin typeface="Verdana"/>
            </a:endParaRPr>
          </a:p>
        </p:txBody>
      </p:sp>
      <p:sp>
        <p:nvSpPr>
          <p:cNvPr id="59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n Ag Metals teacher assigns students to build a pencil-box by bending and shaping metal. She provides a worksheet that includes various possibilities to use to make the box. Students must choose which model would accurately fold into a square box.</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9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Once students have selected the correct diagram, they will enlarge the dimensions to create a pencil-box. Which diagram should they use?</a:t>
            </a:r>
            <a:endParaRPr b="0" lang="en-US" sz="2800" spc="-1" strike="noStrike">
              <a:solidFill>
                <a:srgbClr val="4e3b30"/>
              </a:solidFill>
              <a:latin typeface="Verdana"/>
            </a:endParaRPr>
          </a:p>
        </p:txBody>
      </p:sp>
      <p:grpSp>
        <p:nvGrpSpPr>
          <p:cNvPr id="596" name="Group 2"/>
          <p:cNvGrpSpPr/>
          <p:nvPr/>
        </p:nvGrpSpPr>
        <p:grpSpPr>
          <a:xfrm>
            <a:off x="3905280" y="3733920"/>
            <a:ext cx="1400040" cy="1257120"/>
            <a:chOff x="3905280" y="3733920"/>
            <a:chExt cx="1400040" cy="1257120"/>
          </a:xfrm>
        </p:grpSpPr>
        <p:sp>
          <p:nvSpPr>
            <p:cNvPr id="597" name="Rectangle 3"/>
            <p:cNvSpPr/>
            <p:nvPr/>
          </p:nvSpPr>
          <p:spPr>
            <a:xfrm>
              <a:off x="437184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
            <p:cNvSpPr/>
            <p:nvPr/>
          </p:nvSpPr>
          <p:spPr>
            <a:xfrm>
              <a:off x="390528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5"/>
            <p:cNvSpPr/>
            <p:nvPr/>
          </p:nvSpPr>
          <p:spPr>
            <a:xfrm>
              <a:off x="3905280" y="415296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6"/>
            <p:cNvSpPr/>
            <p:nvPr/>
          </p:nvSpPr>
          <p:spPr>
            <a:xfrm>
              <a:off x="390528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7"/>
            <p:cNvSpPr/>
            <p:nvPr/>
          </p:nvSpPr>
          <p:spPr>
            <a:xfrm>
              <a:off x="437184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8"/>
            <p:cNvSpPr/>
            <p:nvPr/>
          </p:nvSpPr>
          <p:spPr>
            <a:xfrm>
              <a:off x="483876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3" name="Group 9"/>
          <p:cNvGrpSpPr/>
          <p:nvPr/>
        </p:nvGrpSpPr>
        <p:grpSpPr>
          <a:xfrm>
            <a:off x="6324480" y="3733920"/>
            <a:ext cx="1866960" cy="1257120"/>
            <a:chOff x="6324480" y="3733920"/>
            <a:chExt cx="1866960" cy="1257120"/>
          </a:xfrm>
        </p:grpSpPr>
        <p:sp>
          <p:nvSpPr>
            <p:cNvPr id="604" name="Rectangle 10"/>
            <p:cNvSpPr/>
            <p:nvPr/>
          </p:nvSpPr>
          <p:spPr>
            <a:xfrm>
              <a:off x="679104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1"/>
            <p:cNvSpPr/>
            <p:nvPr/>
          </p:nvSpPr>
          <p:spPr>
            <a:xfrm>
              <a:off x="725796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12"/>
            <p:cNvSpPr/>
            <p:nvPr/>
          </p:nvSpPr>
          <p:spPr>
            <a:xfrm>
              <a:off x="63244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3"/>
            <p:cNvSpPr/>
            <p:nvPr/>
          </p:nvSpPr>
          <p:spPr>
            <a:xfrm>
              <a:off x="7257960" y="373392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4"/>
            <p:cNvSpPr/>
            <p:nvPr/>
          </p:nvSpPr>
          <p:spPr>
            <a:xfrm>
              <a:off x="77248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5"/>
            <p:cNvSpPr/>
            <p:nvPr/>
          </p:nvSpPr>
          <p:spPr>
            <a:xfrm>
              <a:off x="7724880" y="457200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1" name="Group 16"/>
          <p:cNvGrpSpPr/>
          <p:nvPr/>
        </p:nvGrpSpPr>
        <p:grpSpPr>
          <a:xfrm>
            <a:off x="1019160" y="3733920"/>
            <a:ext cx="1866600" cy="1676160"/>
            <a:chOff x="1019160" y="3733920"/>
            <a:chExt cx="1866600" cy="1676160"/>
          </a:xfrm>
        </p:grpSpPr>
        <p:sp>
          <p:nvSpPr>
            <p:cNvPr id="612" name="Rectangle 23"/>
            <p:cNvSpPr/>
            <p:nvPr/>
          </p:nvSpPr>
          <p:spPr>
            <a:xfrm>
              <a:off x="2419200" y="4991040"/>
              <a:ext cx="466560" cy="41904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2"/>
            <p:cNvSpPr/>
            <p:nvPr/>
          </p:nvSpPr>
          <p:spPr>
            <a:xfrm>
              <a:off x="1019160" y="373392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1"/>
            <p:cNvSpPr/>
            <p:nvPr/>
          </p:nvSpPr>
          <p:spPr>
            <a:xfrm>
              <a:off x="101916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20"/>
            <p:cNvSpPr/>
            <p:nvPr/>
          </p:nvSpPr>
          <p:spPr>
            <a:xfrm>
              <a:off x="148572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9"/>
            <p:cNvSpPr/>
            <p:nvPr/>
          </p:nvSpPr>
          <p:spPr>
            <a:xfrm>
              <a:off x="148572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8"/>
            <p:cNvSpPr/>
            <p:nvPr/>
          </p:nvSpPr>
          <p:spPr>
            <a:xfrm>
              <a:off x="1952640" y="49910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7"/>
            <p:cNvSpPr/>
            <p:nvPr/>
          </p:nvSpPr>
          <p:spPr>
            <a:xfrm>
              <a:off x="195264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620"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Students should use the purple figure because it folds into a box.</a:t>
            </a:r>
            <a:endParaRPr b="0" lang="en-US" sz="2800" spc="-1" strike="noStrike">
              <a:solidFill>
                <a:srgbClr val="4e3b30"/>
              </a:solidFill>
              <a:latin typeface="Verdana"/>
            </a:endParaRPr>
          </a:p>
        </p:txBody>
      </p:sp>
      <p:grpSp>
        <p:nvGrpSpPr>
          <p:cNvPr id="621" name="Group 2"/>
          <p:cNvGrpSpPr/>
          <p:nvPr/>
        </p:nvGrpSpPr>
        <p:grpSpPr>
          <a:xfrm>
            <a:off x="3905280" y="3733920"/>
            <a:ext cx="1400040" cy="1257120"/>
            <a:chOff x="3905280" y="3733920"/>
            <a:chExt cx="1400040" cy="1257120"/>
          </a:xfrm>
        </p:grpSpPr>
        <p:sp>
          <p:nvSpPr>
            <p:cNvPr id="622" name="Rectangle 3"/>
            <p:cNvSpPr/>
            <p:nvPr/>
          </p:nvSpPr>
          <p:spPr>
            <a:xfrm>
              <a:off x="437184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4"/>
            <p:cNvSpPr/>
            <p:nvPr/>
          </p:nvSpPr>
          <p:spPr>
            <a:xfrm>
              <a:off x="390528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5"/>
            <p:cNvSpPr/>
            <p:nvPr/>
          </p:nvSpPr>
          <p:spPr>
            <a:xfrm>
              <a:off x="3905280" y="415296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
            <p:cNvSpPr/>
            <p:nvPr/>
          </p:nvSpPr>
          <p:spPr>
            <a:xfrm>
              <a:off x="3905280" y="373392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7"/>
            <p:cNvSpPr/>
            <p:nvPr/>
          </p:nvSpPr>
          <p:spPr>
            <a:xfrm>
              <a:off x="437184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8"/>
            <p:cNvSpPr/>
            <p:nvPr/>
          </p:nvSpPr>
          <p:spPr>
            <a:xfrm>
              <a:off x="4838760" y="4572000"/>
              <a:ext cx="466560" cy="419040"/>
            </a:xfrm>
            <a:prstGeom prst="rect">
              <a:avLst/>
            </a:prstGeom>
            <a:solidFill>
              <a:srgbClr val="0070c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8" name="Group 9"/>
          <p:cNvGrpSpPr/>
          <p:nvPr/>
        </p:nvGrpSpPr>
        <p:grpSpPr>
          <a:xfrm>
            <a:off x="6324480" y="3733920"/>
            <a:ext cx="1866960" cy="1257120"/>
            <a:chOff x="6324480" y="3733920"/>
            <a:chExt cx="1866960" cy="1257120"/>
          </a:xfrm>
        </p:grpSpPr>
        <p:sp>
          <p:nvSpPr>
            <p:cNvPr id="629" name="Rectangle 10"/>
            <p:cNvSpPr/>
            <p:nvPr/>
          </p:nvSpPr>
          <p:spPr>
            <a:xfrm>
              <a:off x="679104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1"/>
            <p:cNvSpPr/>
            <p:nvPr/>
          </p:nvSpPr>
          <p:spPr>
            <a:xfrm>
              <a:off x="725796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2"/>
            <p:cNvSpPr/>
            <p:nvPr/>
          </p:nvSpPr>
          <p:spPr>
            <a:xfrm>
              <a:off x="63244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3"/>
            <p:cNvSpPr/>
            <p:nvPr/>
          </p:nvSpPr>
          <p:spPr>
            <a:xfrm>
              <a:off x="7257960" y="373392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4"/>
            <p:cNvSpPr/>
            <p:nvPr/>
          </p:nvSpPr>
          <p:spPr>
            <a:xfrm>
              <a:off x="7724880" y="415296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5"/>
            <p:cNvSpPr/>
            <p:nvPr/>
          </p:nvSpPr>
          <p:spPr>
            <a:xfrm>
              <a:off x="7724880" y="4572000"/>
              <a:ext cx="466560" cy="419040"/>
            </a:xfrm>
            <a:prstGeom prst="rect">
              <a:avLst/>
            </a:prstGeom>
            <a:solidFill>
              <a:srgbClr val="7030a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Group 16"/>
          <p:cNvGrpSpPr/>
          <p:nvPr/>
        </p:nvGrpSpPr>
        <p:grpSpPr>
          <a:xfrm>
            <a:off x="1019160" y="3733920"/>
            <a:ext cx="1866600" cy="1676160"/>
            <a:chOff x="1019160" y="3733920"/>
            <a:chExt cx="1866600" cy="1676160"/>
          </a:xfrm>
        </p:grpSpPr>
        <p:sp>
          <p:nvSpPr>
            <p:cNvPr id="636" name="Rectangle 23"/>
            <p:cNvSpPr/>
            <p:nvPr/>
          </p:nvSpPr>
          <p:spPr>
            <a:xfrm>
              <a:off x="2419200" y="4991040"/>
              <a:ext cx="466560" cy="41904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22"/>
            <p:cNvSpPr/>
            <p:nvPr/>
          </p:nvSpPr>
          <p:spPr>
            <a:xfrm>
              <a:off x="1019160" y="373392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21"/>
            <p:cNvSpPr/>
            <p:nvPr/>
          </p:nvSpPr>
          <p:spPr>
            <a:xfrm>
              <a:off x="101916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20"/>
            <p:cNvSpPr/>
            <p:nvPr/>
          </p:nvSpPr>
          <p:spPr>
            <a:xfrm>
              <a:off x="1485720" y="41522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19"/>
            <p:cNvSpPr/>
            <p:nvPr/>
          </p:nvSpPr>
          <p:spPr>
            <a:xfrm>
              <a:off x="148572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18"/>
            <p:cNvSpPr/>
            <p:nvPr/>
          </p:nvSpPr>
          <p:spPr>
            <a:xfrm>
              <a:off x="1952640" y="49910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17"/>
            <p:cNvSpPr/>
            <p:nvPr/>
          </p:nvSpPr>
          <p:spPr>
            <a:xfrm>
              <a:off x="1952640" y="4571640"/>
              <a:ext cx="466560" cy="419040"/>
            </a:xfrm>
            <a:prstGeom prst="rect">
              <a:avLst/>
            </a:prstGeom>
            <a:solidFill>
              <a:srgbClr val="ffc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3" name="Rectangle 25"/>
          <p:cNvSpPr/>
          <p:nvPr/>
        </p:nvSpPr>
        <p:spPr>
          <a:xfrm>
            <a:off x="5943600" y="3124080"/>
            <a:ext cx="2666880" cy="2514600"/>
          </a:xfrm>
          <a:prstGeom prst="rect">
            <a:avLst/>
          </a:prstGeom>
          <a:noFill/>
          <a:ln w="38160">
            <a:solidFill>
              <a:srgbClr val="f0a2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4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 X sketches the following diagram to use for his metal box project. If he uses this diagram, will his metal fold into a box?</a:t>
            </a:r>
            <a:endParaRPr b="0" lang="en-US" sz="2800" spc="-1" strike="noStrike">
              <a:solidFill>
                <a:srgbClr val="4e3b30"/>
              </a:solidFill>
              <a:latin typeface="Verdana"/>
            </a:endParaRPr>
          </a:p>
        </p:txBody>
      </p:sp>
      <p:sp>
        <p:nvSpPr>
          <p:cNvPr id="64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7" name="Group 4"/>
          <p:cNvGrpSpPr/>
          <p:nvPr/>
        </p:nvGrpSpPr>
        <p:grpSpPr>
          <a:xfrm>
            <a:off x="3695760" y="3581280"/>
            <a:ext cx="1866960" cy="1257480"/>
            <a:chOff x="3695760" y="3581280"/>
            <a:chExt cx="1866960" cy="1257480"/>
          </a:xfrm>
        </p:grpSpPr>
        <p:sp>
          <p:nvSpPr>
            <p:cNvPr id="648" name="Rectangle 10"/>
            <p:cNvSpPr/>
            <p:nvPr/>
          </p:nvSpPr>
          <p:spPr>
            <a:xfrm>
              <a:off x="509616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9"/>
            <p:cNvSpPr/>
            <p:nvPr/>
          </p:nvSpPr>
          <p:spPr>
            <a:xfrm>
              <a:off x="369576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8"/>
            <p:cNvSpPr/>
            <p:nvPr/>
          </p:nvSpPr>
          <p:spPr>
            <a:xfrm>
              <a:off x="3695760" y="40003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7"/>
            <p:cNvSpPr/>
            <p:nvPr/>
          </p:nvSpPr>
          <p:spPr>
            <a:xfrm>
              <a:off x="3695760" y="358128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6"/>
            <p:cNvSpPr/>
            <p:nvPr/>
          </p:nvSpPr>
          <p:spPr>
            <a:xfrm>
              <a:off x="416232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5"/>
            <p:cNvSpPr/>
            <p:nvPr/>
          </p:nvSpPr>
          <p:spPr>
            <a:xfrm>
              <a:off x="4629240" y="4419720"/>
              <a:ext cx="466560" cy="419040"/>
            </a:xfrm>
            <a:prstGeom prst="rect">
              <a:avLst/>
            </a:prstGeom>
            <a:solidFill>
              <a:srgbClr val="ff00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5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No, there will be overlapping side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 Y sketches the following diagram to use for his metal box project. If he uses this diagram, will his metal fold into a box?</a:t>
            </a:r>
            <a:endParaRPr b="0" lang="en-US" sz="2800" spc="-1" strike="noStrike">
              <a:solidFill>
                <a:srgbClr val="4e3b30"/>
              </a:solidFill>
              <a:latin typeface="Verdana"/>
            </a:endParaRPr>
          </a:p>
        </p:txBody>
      </p:sp>
      <p:sp>
        <p:nvSpPr>
          <p:cNvPr id="65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9" name="Group 4"/>
          <p:cNvGrpSpPr/>
          <p:nvPr/>
        </p:nvGrpSpPr>
        <p:grpSpPr>
          <a:xfrm>
            <a:off x="3948120" y="3429000"/>
            <a:ext cx="1400040" cy="1676520"/>
            <a:chOff x="3948120" y="3429000"/>
            <a:chExt cx="1400040" cy="1676520"/>
          </a:xfrm>
        </p:grpSpPr>
        <p:sp>
          <p:nvSpPr>
            <p:cNvPr id="660" name="Rectangle 10"/>
            <p:cNvSpPr/>
            <p:nvPr/>
          </p:nvSpPr>
          <p:spPr>
            <a:xfrm>
              <a:off x="4414680" y="384804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9"/>
            <p:cNvSpPr/>
            <p:nvPr/>
          </p:nvSpPr>
          <p:spPr>
            <a:xfrm>
              <a:off x="3948120" y="468648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8"/>
            <p:cNvSpPr/>
            <p:nvPr/>
          </p:nvSpPr>
          <p:spPr>
            <a:xfrm>
              <a:off x="4881600" y="342900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7"/>
            <p:cNvSpPr/>
            <p:nvPr/>
          </p:nvSpPr>
          <p:spPr>
            <a:xfrm>
              <a:off x="4881600" y="384804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6"/>
            <p:cNvSpPr/>
            <p:nvPr/>
          </p:nvSpPr>
          <p:spPr>
            <a:xfrm>
              <a:off x="3948120" y="426708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5"/>
            <p:cNvSpPr/>
            <p:nvPr/>
          </p:nvSpPr>
          <p:spPr>
            <a:xfrm>
              <a:off x="4414680" y="4267080"/>
              <a:ext cx="466560" cy="419040"/>
            </a:xfrm>
            <a:prstGeom prst="rect">
              <a:avLst/>
            </a:prstGeom>
            <a:solidFill>
              <a:srgbClr val="ffff00"/>
            </a:solidFill>
            <a:ln w="12600">
              <a:solidFill>
                <a:srgbClr val="0d0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6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e3b30"/>
                </a:solidFill>
                <a:latin typeface="Verdana"/>
              </a:rPr>
              <a:t>Answer: Yes, there is the correct number of squares, and they each fold to represent one side of the box.</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Ag Metal Fabrication students use geometry shapes to determine how to cut and bend metal to create metal box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g Metal Fabrication—AMF1.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repare different types of metal for welding.</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Bend, shape, file, and grind metal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9-12.G.2.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ble to recognize the relationship between a three-dimensional figure and its two-dimensional representation. </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Which of the following will fold into a cub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eps to make a net diagram of a box:</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tart with six squares since there are six sides to a cub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rrange the six squares so they fold into a cub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ink of a cube as four sides, a top, and a bottom.</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First choose one square to be the base of the cube in your mind.</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eps to make a net diagram of a box:</a:t>
            </a:r>
            <a:endParaRPr b="0" lang="en-US" sz="28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n imagine the sides folding up around the base.</a:t>
            </a:r>
            <a:endParaRPr b="0" lang="en-US" sz="2400" spc="-1" strike="noStrike">
              <a:solidFill>
                <a:srgbClr val="4e3b30"/>
              </a:solidFill>
              <a:latin typeface="Verdana"/>
            </a:endParaRPr>
          </a:p>
          <a:p>
            <a:pPr lvl="1" marL="914400" indent="-457200">
              <a:spcBef>
                <a:spcPts val="601"/>
              </a:spcBef>
              <a:buClr>
                <a:srgbClr val="f0a22e"/>
              </a:buClr>
              <a:buSzPct val="70000"/>
              <a:buFont typeface="Verdana"/>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The last square should flip over to be the top of the cube.</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are asked to create a small box by bending and shaping metal. They first diagram their box design on paper to determine how it will fold. Using geometry knowledge, they will create a model that will fold into a box.</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 A creates this design. He cuts out the paper model and practices folding it to ensure his diagram will work.</a:t>
            </a:r>
            <a:endParaRPr b="0" lang="en-US" sz="2800" spc="-1" strike="noStrike">
              <a:solidFill>
                <a:srgbClr val="4e3b30"/>
              </a:solidFill>
              <a:latin typeface="Verdana"/>
            </a:endParaRPr>
          </a:p>
        </p:txBody>
      </p:sp>
      <p:sp>
        <p:nvSpPr>
          <p:cNvPr id="56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9" name="Group 4"/>
          <p:cNvGrpSpPr/>
          <p:nvPr/>
        </p:nvGrpSpPr>
        <p:grpSpPr>
          <a:xfrm>
            <a:off x="3200400" y="3733920"/>
            <a:ext cx="2333520" cy="1256760"/>
            <a:chOff x="3200400" y="3733920"/>
            <a:chExt cx="2333520" cy="1256760"/>
          </a:xfrm>
        </p:grpSpPr>
        <p:sp>
          <p:nvSpPr>
            <p:cNvPr id="570" name="Rectangle 11"/>
            <p:cNvSpPr/>
            <p:nvPr/>
          </p:nvSpPr>
          <p:spPr>
            <a:xfrm>
              <a:off x="320040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10"/>
            <p:cNvSpPr/>
            <p:nvPr/>
          </p:nvSpPr>
          <p:spPr>
            <a:xfrm>
              <a:off x="366696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9"/>
            <p:cNvSpPr/>
            <p:nvPr/>
          </p:nvSpPr>
          <p:spPr>
            <a:xfrm>
              <a:off x="413388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8"/>
            <p:cNvSpPr/>
            <p:nvPr/>
          </p:nvSpPr>
          <p:spPr>
            <a:xfrm>
              <a:off x="460044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7"/>
            <p:cNvSpPr/>
            <p:nvPr/>
          </p:nvSpPr>
          <p:spPr>
            <a:xfrm>
              <a:off x="3666960" y="457200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6"/>
            <p:cNvSpPr/>
            <p:nvPr/>
          </p:nvSpPr>
          <p:spPr>
            <a:xfrm>
              <a:off x="3666960" y="37339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5"/>
            <p:cNvSpPr/>
            <p:nvPr/>
          </p:nvSpPr>
          <p:spPr>
            <a:xfrm>
              <a:off x="5067360" y="415260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8"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After he tries folding this model, he realizes he has one too many squares. He only needs six. He tries again by cutting off one square cube of the paper.</a:t>
            </a:r>
            <a:endParaRPr b="0" lang="en-US" sz="2800" spc="-1" strike="noStrike">
              <a:solidFill>
                <a:srgbClr val="4e3b30"/>
              </a:solidFill>
              <a:latin typeface="Verdana"/>
            </a:endParaRPr>
          </a:p>
        </p:txBody>
      </p:sp>
      <p:sp>
        <p:nvSpPr>
          <p:cNvPr id="57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1" name="Group 1"/>
          <p:cNvGrpSpPr/>
          <p:nvPr/>
        </p:nvGrpSpPr>
        <p:grpSpPr>
          <a:xfrm>
            <a:off x="3200400" y="3733920"/>
            <a:ext cx="1866960" cy="1256760"/>
            <a:chOff x="3200400" y="3733920"/>
            <a:chExt cx="1866960" cy="1256760"/>
          </a:xfrm>
        </p:grpSpPr>
        <p:sp>
          <p:nvSpPr>
            <p:cNvPr id="582" name="Rectangle 7"/>
            <p:cNvSpPr/>
            <p:nvPr/>
          </p:nvSpPr>
          <p:spPr>
            <a:xfrm>
              <a:off x="320040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6"/>
            <p:cNvSpPr/>
            <p:nvPr/>
          </p:nvSpPr>
          <p:spPr>
            <a:xfrm>
              <a:off x="366696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5"/>
            <p:cNvSpPr/>
            <p:nvPr/>
          </p:nvSpPr>
          <p:spPr>
            <a:xfrm>
              <a:off x="413388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4600800" y="41533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3"/>
            <p:cNvSpPr/>
            <p:nvPr/>
          </p:nvSpPr>
          <p:spPr>
            <a:xfrm>
              <a:off x="3666960" y="457200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
            <p:cNvSpPr/>
            <p:nvPr/>
          </p:nvSpPr>
          <p:spPr>
            <a:xfrm>
              <a:off x="3666960" y="3733920"/>
              <a:ext cx="466560" cy="4186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7-31T05:26:05Z</dcterms:modified>
  <cp:revision>20</cp:revision>
  <dc:subject/>
  <dc:title>South Dakota Ag Education</dc:title>
</cp:coreProperties>
</file>